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C8FAF-25EE-4AB4-911B-813C8F7E3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655BF-26E9-4F1F-915F-78DCE7885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15303-1675-4B19-BFD0-429CAD753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1AB30-6FBC-491B-A6DC-D035FFACC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2BAA5-C48D-4609-925D-726263646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AD144-334D-4B09-8349-C6CE97E96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27707-BF24-40A1-AD25-F6C37E9EE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B02A4-250A-43E0-843C-39159F1BE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A3027-7784-4411-9A6A-80C75C1BF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6EC0C-F66F-4B48-95D5-1A4E94ECA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16865-AD59-486F-A261-EEB26B61B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37959-3F8B-4A4B-A636-A70ECEF86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87272-5AD3-406E-AE86-720EC298C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F6A6C-F574-4101-939C-B8C5ECBEA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97F21-F81E-456D-AC36-9384E05EE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27E54-20B9-492C-BA81-FCB77FE63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D3DAD-2E03-44B1-8A67-886421297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1348B-03E0-4508-9A61-19ADD0A60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47BDE-6AAF-408F-8063-537BBCDA3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58C0C-EDFE-4E66-9C5A-BF5449D25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C69CE-8A34-4307-BAD9-AB5298E4C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40896-0EB2-4970-8712-8131440F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DCB0B-8868-4FDB-B7DB-5FBD3548B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8278F-2026-4982-92FF-B548BF806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740F-AD8E-4B06-BF19-C779F62E76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E22A-02CA-4805-A80A-78D12E2C9F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97000"/>
            <a:ext cx="7772400" cy="172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66ff"/>
                </a:solidFill>
                <a:latin typeface="Arial Black"/>
              </a:rPr>
              <a:t>МОУ Шпановская ООШ</a:t>
            </a:r>
            <a:br>
              <a:rPr sz="6000"/>
            </a:br>
            <a:r>
              <a:rPr b="1" lang="en-US" sz="5400" spc="-1" strike="noStrike">
                <a:solidFill>
                  <a:srgbClr val="ffffb7"/>
                </a:solidFill>
                <a:latin typeface="Arial Black"/>
              </a:rPr>
              <a:t> </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ПРОЕКТ</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ГРАЖДАНИН. ПЕДАГОГ. ФРОНТОВИК.</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С. Шпановка 2010г.</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476280"/>
            <a:ext cx="8209080" cy="612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826920" y="765000"/>
            <a:ext cx="7632720" cy="572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50920" y="376200"/>
            <a:ext cx="8642160" cy="593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осле демобилизации перед Владимиром Игнатьевичем встал вопрос: что делать дальше?</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ужно было получить образование и он поступил в вечернюю школу  в Мелекесский Учительский институт вольным слушателем.</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ыбрал Владимир Игнатьевич факультет физики и математики.</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 институте, и даже на одном факультете, он познакомился со своей будущей женой Козловой Надеждой Алексеевной.</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адежда Алексеевна тоже родом была из села Тенеево. Когда юный Владимир уходил на фронт, она еще училась в школе в третьем классе.</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 институте у них складывались особые отношения, Владимир взял шефство над своей юной землячкой, но судьбы свои соединили они много позже.</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осле окончания института по распределению они вместе попали в Малыклинский район. Надежда Алексеевна проработала год в районе, а Владимир Игнатьевич отказался и попросился в Кошкинский район. Его направили учителем математики и физики в Васильевскую школу.</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Через год они встретились в своем родном селе и решили пожениться.</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Молодых специалистов направили работать в Шпановскую школу.</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
          <p:cNvSpPr txBox="1"/>
          <p:nvPr/>
        </p:nvSpPr>
        <p:spPr>
          <a:xfrm>
            <a:off x="1763640" y="1700280"/>
            <a:ext cx="66960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иректо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116000" y="692280"/>
            <a:ext cx="7272360" cy="561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080"/>
            <a:ext cx="8385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Коллектив Шпановской школы 1971год</a:t>
            </a:r>
            <a:endParaRPr b="1" lang="en-US" sz="3600" spc="-1" strike="noStrike">
              <a:solidFill>
                <a:srgbClr val="ffffb7"/>
              </a:solidFill>
              <a:latin typeface="Arial Black"/>
            </a:endParaRPr>
          </a:p>
        </p:txBody>
      </p:sp>
      <p:pic>
        <p:nvPicPr>
          <p:cNvPr id="127" name="" descr=""/>
          <p:cNvPicPr/>
          <p:nvPr/>
        </p:nvPicPr>
        <p:blipFill>
          <a:blip r:embed="rId1"/>
          <a:stretch/>
        </p:blipFill>
        <p:spPr>
          <a:xfrm>
            <a:off x="1763640" y="1484280"/>
            <a:ext cx="7056360" cy="4969080"/>
          </a:xfrm>
          <a:prstGeom prst="rect">
            <a:avLst/>
          </a:prstGeom>
          <a:ln w="0">
            <a:noFill/>
          </a:ln>
        </p:spPr>
      </p:pic>
      <p:sp>
        <p:nvSpPr>
          <p:cNvPr id="128" name=""/>
          <p:cNvSpPr/>
          <p:nvPr/>
        </p:nvSpPr>
        <p:spPr>
          <a:xfrm>
            <a:off x="0" y="2368440"/>
            <a:ext cx="1692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Максимов В.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с коллегам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Надежда Алексеев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первая справа во втором ряд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почетная грамота</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1"/>
          <a:stretch/>
        </p:blipFill>
        <p:spPr>
          <a:xfrm>
            <a:off x="539640" y="1341360"/>
            <a:ext cx="3757680" cy="4827600"/>
          </a:xfrm>
          <a:prstGeom prst="rect">
            <a:avLst/>
          </a:prstGeom>
          <a:ln w="0">
            <a:noFill/>
          </a:ln>
        </p:spPr>
      </p:pic>
      <p:pic>
        <p:nvPicPr>
          <p:cNvPr id="132" name="" descr=""/>
          <p:cNvPicPr/>
          <p:nvPr/>
        </p:nvPicPr>
        <p:blipFill>
          <a:blip r:embed="rId2"/>
          <a:stretch/>
        </p:blipFill>
        <p:spPr>
          <a:xfrm>
            <a:off x="5003640" y="1268280"/>
            <a:ext cx="3745080" cy="482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з воспоминаний коллег</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злова Галина Евгеньевна : «Я вспоминаю ту особую атмосферу, которая была в школе в праздничные дни. Каждый день рождения, новогодние и другие праздники учителя отмечали в коллективе. Особенно мне запомнился Новый год, когда Владимир Игнатьевич пригласил нас к себе домой. В разгар веселья вдруг погасили свет, тогда Владимир Игнатьевич нашел  керосиновый фонарь и  повесил его над столом. И мы продолжили встречу Нового года под свет керосиновой лампы. Праздник удался,  было очень весело и уютно.»</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Вот что рассказывает Надежда Алексеевна о своих первых впечатлениях о селе.</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Было очень трудно. Особенно после того, как Владимира Игнатьевича назначили директором. Школа была маленькая , старая. Рядом находился поповский дом. Занятия велись в двух зданиях. Учительская была в маленькой комнате, где мы все едва помещались.  По своей инициативе Владимир Игнатьевич затеял большую стройку, соединил эти два здания.</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Через несколько лет в селе начали строить новую школ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476280"/>
            <a:ext cx="8229600" cy="17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Black"/>
              </a:rPr>
              <a:t>Максимов Владимир Игнатьевич</a:t>
            </a:r>
            <a:endParaRPr b="1" lang="en-US" sz="4800" spc="-1" strike="noStrike">
              <a:solidFill>
                <a:srgbClr val="ffffb7"/>
              </a:solidFill>
              <a:latin typeface="Arial Black"/>
            </a:endParaRPr>
          </a:p>
        </p:txBody>
      </p:sp>
      <p:sp>
        <p:nvSpPr>
          <p:cNvPr id="101" name="PlaceHolder 2"/>
          <p:cNvSpPr>
            <a:spLocks noGrp="1"/>
          </p:cNvSpPr>
          <p:nvPr>
            <p:ph/>
          </p:nvPr>
        </p:nvSpPr>
        <p:spPr>
          <a:xfrm>
            <a:off x="395280" y="2205000"/>
            <a:ext cx="8229600" cy="39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
          <p:cNvPicPr/>
          <p:nvPr/>
        </p:nvPicPr>
        <p:blipFill>
          <a:blip r:embed="rId1"/>
          <a:stretch/>
        </p:blipFill>
        <p:spPr>
          <a:xfrm>
            <a:off x="6084720" y="2276640"/>
            <a:ext cx="1974960" cy="309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 name="PlaceHolder 2"/>
          <p:cNvSpPr>
            <a:spLocks noGrp="1"/>
          </p:cNvSpPr>
          <p:nvPr>
            <p:ph/>
          </p:nvPr>
        </p:nvSpPr>
        <p:spPr>
          <a:xfrm>
            <a:off x="837720" y="620280"/>
            <a:ext cx="7479000" cy="547524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о строительством школы начались и новые трудности. На руках у семьи Максимовых было трое маленьких детей, да и еще и большое хозяйство, без которого на селе никак нельзя. Владимир Игнатьевич с утра до вечера находился на стройке.</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ледил за ходом работы, привозил стройматериалы…</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о ни разу не ходил в школу без поурочных конспектов.</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гда все домашние дела были сделаны, дети уложены спать, мы садились за стол и проверяли тетради, писали конспекты…</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кое счастье было встретить учебный год в новой, светлой, большой школ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з школьных сочинений</a:t>
            </a:r>
            <a:endParaRPr b="1" lang="en-US" sz="4400" spc="-1" strike="noStrike">
              <a:solidFill>
                <a:srgbClr val="ffffb7"/>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ойна … она обязательно кончаетс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ля кого-то победой, а для кого-то поражение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Четыре года бушевало  яростное пламя войн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о и ей пришел конец. Вновь стали восходить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ихие зори», перестали греметь канонады, н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тмевает рассвета грозное пожарище войн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ошло 65-лет, и мы, потомки , благодари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сех ветеранов, всех тех, кто принес в нашу страну Победу и мирное небо, за наше счастливое детств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3" name="" descr=""/>
          <p:cNvPicPr/>
          <p:nvPr/>
        </p:nvPicPr>
        <p:blipFill>
          <a:blip r:embed="rId1"/>
          <a:stretch/>
        </p:blipFill>
        <p:spPr>
          <a:xfrm>
            <a:off x="3348000" y="2276640"/>
            <a:ext cx="5376960" cy="3438360"/>
          </a:xfrm>
          <a:prstGeom prst="rect">
            <a:avLst/>
          </a:prstGeom>
          <a:ln w="0">
            <a:noFill/>
          </a:ln>
        </p:spPr>
      </p:pic>
      <p:sp>
        <p:nvSpPr>
          <p:cNvPr id="144" name=""/>
          <p:cNvSpPr/>
          <p:nvPr/>
        </p:nvSpPr>
        <p:spPr>
          <a:xfrm>
            <a:off x="468360" y="2852640"/>
            <a:ext cx="2590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На праздновании Дня Победы  в селе Шпановк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Максимов В.И. крайний справ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 descr=""/>
          <p:cNvPicPr/>
          <p:nvPr/>
        </p:nvPicPr>
        <p:blipFill>
          <a:blip r:embed="rId1"/>
          <a:stretch/>
        </p:blipFill>
        <p:spPr>
          <a:xfrm>
            <a:off x="3495600" y="549360"/>
            <a:ext cx="5357880" cy="5904000"/>
          </a:xfrm>
          <a:prstGeom prst="rect">
            <a:avLst/>
          </a:prstGeom>
          <a:ln w="0">
            <a:noFill/>
          </a:ln>
        </p:spPr>
      </p:pic>
      <p:sp>
        <p:nvSpPr>
          <p:cNvPr id="148" name=""/>
          <p:cNvSpPr/>
          <p:nvPr/>
        </p:nvSpPr>
        <p:spPr>
          <a:xfrm>
            <a:off x="826920" y="2637000"/>
            <a:ext cx="1873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Информация о ветеране Максимове В.И. напечатана в местной газете «Северные нивы» по материалам Шпановской школ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Династия</a:t>
            </a: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Учительская династия продолжается и в детях Владимира Игнатьевича. Его дочь Людмила как и родители получила специальность учителя физики и математики, работает в городе Мурманске, а в этом году и внучка, тоже закончив университет, получила специальность учителя физики и математи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оенные годы очень сильно отразились на здоровье Владимира Игнатьевича. Сейчас он тяжело болен,  он совсем не разговаривает, (последствия трех инсультов), но иногда сквозь сон Надежда Алексеевна слышит, как он еле  произносит: «…первый класс, школа,..»</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ладимир Игнатьевич проработал  директором в Шпановской школе более тридцати лет. Односельчане и его бывшие коллеги, его ученики  до  сих пор с благодарностью вспоминают о не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5" name=""/>
          <p:cNvSpPr txBox="1"/>
          <p:nvPr/>
        </p:nvSpPr>
        <p:spPr>
          <a:xfrm>
            <a:off x="755640" y="620640"/>
            <a:ext cx="6985080" cy="496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Чем им обязан -знаю 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 пусть не только сти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остойна будет жизнь мо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лдатской смерти их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резентацию готовили учащиеся 8 класса МОУ Шпановской основной общеобразовательной школы Кошкинского район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Благодарим за внимани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Уходят дни как будто люди </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Утихла в сердце боль утрат, </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Пока ты есть- Россия будет,</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Твое Величество Солдат!</a:t>
            </a: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0728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    </a:t>
            </a:r>
            <a:r>
              <a:rPr b="0" i="1" lang="en-US" sz="4000" spc="-1" strike="noStrike">
                <a:solidFill>
                  <a:srgbClr val="ffffb7"/>
                </a:solidFill>
                <a:latin typeface="Arial Black"/>
              </a:rPr>
              <a:t>БИОГРАФИЯ</a:t>
            </a:r>
            <a:br>
              <a:rPr sz="4000"/>
            </a:br>
            <a:r>
              <a:rPr b="0" i="1" lang="en-US" sz="4000" spc="-1" strike="noStrike">
                <a:solidFill>
                  <a:srgbClr val="ffffb7"/>
                </a:solidFill>
                <a:latin typeface="Arial Black"/>
              </a:rPr>
              <a:t>       МАКСИМОВА В. И.</a:t>
            </a:r>
            <a:endParaRPr b="1" lang="en-US" sz="4000" spc="-1" strike="noStrike">
              <a:solidFill>
                <a:srgbClr val="ffffb7"/>
              </a:solidFill>
              <a:latin typeface="Arial Black"/>
            </a:endParaRPr>
          </a:p>
        </p:txBody>
      </p:sp>
      <p:sp>
        <p:nvSpPr>
          <p:cNvPr id="106" name="PlaceHolder 2"/>
          <p:cNvSpPr>
            <a:spLocks noGrp="1"/>
          </p:cNvSpPr>
          <p:nvPr>
            <p:ph/>
          </p:nvPr>
        </p:nvSpPr>
        <p:spPr>
          <a:xfrm>
            <a:off x="837720" y="2130120"/>
            <a:ext cx="8007480" cy="39654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0" lang="ru-RU" sz="2400" spc="-1" strike="noStrike">
                <a:solidFill>
                  <a:srgbClr val="ffffff"/>
                </a:solidFill>
                <a:latin typeface="Times New Roman"/>
              </a:rPr>
              <a:t>Максимов В.И. родился 1925 г в селе Ст. Тенеево Кошкинского района. Его отец, Игнатий Максимович, приехал работать в Тенеевскую начальную школу в 1908 году, трудился вплоть до 1956 года. За педагогический труд он был награжден орденом Ленина в 1946 году (эта реликвия сейчас находится в Кошкинском краеведческом музее).</a:t>
            </a:r>
            <a:endParaRPr b="0" lang="en-US" sz="2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емья Владимира Игнатьевича была многодетной. И все дети пошли по стопам отца, они выбрали профессию учителя. </a:t>
            </a:r>
            <a:endParaRPr b="0" lang="en-US" sz="2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В 1941 году Владимир закончил 9 классов. Именно в это лето началась Великая Отечественная войн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з школьных сочинений</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ойна . Когда мы произносим это слово, сердце сжимается от боли и от ужаса…</a:t>
            </a:r>
            <a:endParaRPr b="0" lang="en-US" sz="1400" spc="-1" strike="noStrike">
              <a:solidFill>
                <a:srgbClr val="ffffff"/>
              </a:solidFill>
              <a:latin typeface="Arial"/>
            </a:endParaRPr>
          </a:p>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колько сирот и неродившихся детей! Частые бомбёжки, пепелища уничтоженных деревень, огромные очереди за хлебом, люди, еле передвигающиеся от голода, безысходность, вкравшаяся в глаза матерей, потерявших свое самое дорогое- детей, и он , воин германской армии принесший на нашу землю столько горя, слез и страданий…</a:t>
            </a:r>
            <a:endParaRPr b="0" lang="en-US" sz="1400" spc="-1" strike="noStrike">
              <a:solidFill>
                <a:srgbClr val="ffffff"/>
              </a:solidFill>
              <a:latin typeface="Arial"/>
            </a:endParaRPr>
          </a:p>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Раннее июньское утро 1941 года, когда люди спали спокойным, безмятежным сном, не зная какая страшная и смертельная угроза нависла над страной. 22 июня 1941 года  в четыре часа утра тысячи немецких орудий открыли огонь по пограничным заставам и прилегающим к границе населенным пунктам.</a:t>
            </a:r>
            <a:endParaRPr b="0" lang="en-US" sz="1400" spc="-1" strike="noStrike">
              <a:solidFill>
                <a:srgbClr val="ffffff"/>
              </a:solidFill>
              <a:latin typeface="Arial"/>
            </a:endParaRPr>
          </a:p>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И счастливая мирная жизнь со своими радостями, огорчениями, и веселые школьные годы - все осталось в прошлом, а впереди была только война. Война перевернула все в жизни вчерашних мальчишек и девчонок. Они слишком быстро стали взрослыми.</a:t>
            </a:r>
            <a:endParaRPr b="0" lang="en-US" sz="1400" spc="-1" strike="noStrike">
              <a:solidFill>
                <a:srgbClr val="ffffff"/>
              </a:solidFill>
              <a:latin typeface="Arial"/>
            </a:endParaRPr>
          </a:p>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есь советский народ, переполненный чувством патриотизма, глубокой верой в свои силы, поднялись на ратные  и трудовые подвиги. Началась всеобщая мобилизация. Среди солдат оказались вчерашние рабочие, учителя, школьники…</a:t>
            </a:r>
            <a:endParaRPr b="0" lang="en-US" sz="1400" spc="-1" strike="noStrike">
              <a:solidFill>
                <a:srgbClr val="ffffff"/>
              </a:solidFill>
              <a:latin typeface="Arial"/>
            </a:endParaRPr>
          </a:p>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Одним из участников Великой Отечественной войны был наш земляк Максимов Владимир Игнатьевич</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01680" y="317520"/>
            <a:ext cx="718992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66"/>
                </a:solidFill>
                <a:latin typeface="Arial Black"/>
              </a:rPr>
              <a:t>Военные годы</a:t>
            </a:r>
            <a:endParaRPr b="1" lang="en-US" sz="4400" spc="-1" strike="noStrike">
              <a:solidFill>
                <a:srgbClr val="ffffb7"/>
              </a:solidFill>
              <a:latin typeface="Arial Black"/>
            </a:endParaRPr>
          </a:p>
        </p:txBody>
      </p:sp>
      <p:sp>
        <p:nvSpPr>
          <p:cNvPr id="110" name=""/>
          <p:cNvSpPr/>
          <p:nvPr/>
        </p:nvSpPr>
        <p:spPr>
          <a:xfrm>
            <a:off x="324000" y="1125360"/>
            <a:ext cx="5472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Когда Владимиру исполнилось 18 лет, в феврале 1943 года он был призван в армию. Его направили в офицерское училище, но вскоре училище расформировали и Владимир попал в десантную бригаду минометчиком. В 1944 году он принимал участие в форсирования реки Суги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В этом же году его тяжело ранили осколком в руку и ногу и он был госпитализирован. После выписки из госпиталя в конце января 1945 года с пехотным полком принимал участие в боях за Кенигсберг. 5 марта он был снова ранен и снова попал в госпитал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Долгожданную Победу  Владимир Игнатьевич встретил под Берлином. Но домой после Победы он не вернулся, а продолжал служить в армии. До 1950 года служил писарем  в части в Польше. За добросовестную службу не раз был отмечен грамотами. </a:t>
            </a:r>
            <a:endParaRPr b="0" lang="en-US" sz="1800" spc="-1" strike="noStrike">
              <a:solidFill>
                <a:srgbClr val="ffffff"/>
              </a:solidFill>
              <a:latin typeface="Arial"/>
            </a:endParaRPr>
          </a:p>
        </p:txBody>
      </p:sp>
      <p:pic>
        <p:nvPicPr>
          <p:cNvPr id="111" name="" descr=""/>
          <p:cNvPicPr/>
          <p:nvPr/>
        </p:nvPicPr>
        <p:blipFill>
          <a:blip r:embed="rId1"/>
          <a:stretch/>
        </p:blipFill>
        <p:spPr>
          <a:xfrm>
            <a:off x="5745240" y="1484280"/>
            <a:ext cx="3029040" cy="424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b7"/>
              </a:solidFill>
              <a:latin typeface="Arial Black"/>
            </a:endParaRPr>
          </a:p>
        </p:txBody>
      </p:sp>
      <p:sp>
        <p:nvSpPr>
          <p:cNvPr id="113" name="PlaceHolder 2"/>
          <p:cNvSpPr>
            <a:spLocks noGrp="1"/>
          </p:cNvSpPr>
          <p:nvPr>
            <p:ph/>
          </p:nvPr>
        </p:nvSpPr>
        <p:spPr>
          <a:xfrm>
            <a:off x="900000" y="1915920"/>
            <a:ext cx="7545600" cy="432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Уходили мальчики,</a:t>
            </a:r>
            <a:r>
              <a:rPr b="1" lang="en-US" sz="2000" spc="-1" strike="noStrike">
                <a:solidFill>
                  <a:srgbClr val="cc0000"/>
                </a:solidFill>
                <a:latin typeface="Arial"/>
              </a:rPr>
              <a:t>	</a:t>
            </a:r>
            <a:r>
              <a:rPr b="1" lang="en-US" sz="2000" spc="-1" strike="noStrike">
                <a:solidFill>
                  <a:srgbClr val="cc0000"/>
                </a:solidFill>
                <a:latin typeface="Arial"/>
              </a:rPr>
              <a:t>	</a:t>
            </a:r>
            <a:r>
              <a:rPr b="1" lang="en-US" sz="2000" spc="-1" strike="noStrike">
                <a:solidFill>
                  <a:srgbClr val="cc0000"/>
                </a:solidFill>
                <a:latin typeface="Arial"/>
              </a:rPr>
              <a:t> Убивали мальчиков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На плечах шинели,    </a:t>
            </a:r>
            <a:r>
              <a:rPr b="1" lang="en-US" sz="2000" spc="-1" strike="noStrike">
                <a:solidFill>
                  <a:srgbClr val="cc0000"/>
                </a:solidFill>
                <a:latin typeface="Arial"/>
              </a:rPr>
              <a:t>	</a:t>
            </a:r>
            <a:r>
              <a:rPr b="1" lang="en-US" sz="2000" spc="-1" strike="noStrike">
                <a:solidFill>
                  <a:srgbClr val="cc0000"/>
                </a:solidFill>
                <a:latin typeface="Arial"/>
              </a:rPr>
              <a:t>	</a:t>
            </a:r>
            <a:r>
              <a:rPr b="1" lang="en-US" sz="2000" spc="-1" strike="noStrike">
                <a:solidFill>
                  <a:srgbClr val="cc0000"/>
                </a:solidFill>
                <a:latin typeface="Arial"/>
              </a:rPr>
              <a:t> За побег на мест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Уходили мальчики,                   Не продали мальчик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Храбро песни пели,                   Совести и чест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ступали мальчики                 Не хотели мальчик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ыльными степями,                 Поддаваться страх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Умирали мальчики                    Поднимались мальчик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Где, не знали сами.                    По свистку в атак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опадали мальчики                  В черный дым сражений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В страшные бараки,                  На броне покато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Догоняли мальчиков                 Уезжали мальчик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Лютые собаки.                            Стиснув автомат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Служебная характеристика </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 descr=""/>
          <p:cNvPicPr/>
          <p:nvPr/>
        </p:nvPicPr>
        <p:blipFill>
          <a:blip r:embed="rId1"/>
          <a:stretch/>
        </p:blipFill>
        <p:spPr>
          <a:xfrm>
            <a:off x="4932360" y="1844640"/>
            <a:ext cx="3311640" cy="4464000"/>
          </a:xfrm>
          <a:prstGeom prst="rect">
            <a:avLst/>
          </a:prstGeom>
          <a:ln w="0">
            <a:noFill/>
          </a:ln>
        </p:spPr>
      </p:pic>
      <p:pic>
        <p:nvPicPr>
          <p:cNvPr id="117" name="" descr=""/>
          <p:cNvPicPr/>
          <p:nvPr/>
        </p:nvPicPr>
        <p:blipFill>
          <a:blip r:embed="rId2"/>
          <a:stretch/>
        </p:blipFill>
        <p:spPr>
          <a:xfrm>
            <a:off x="611280" y="1557360"/>
            <a:ext cx="3660840" cy="49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
          <p:cNvSpPr txBox="1"/>
          <p:nvPr/>
        </p:nvSpPr>
        <p:spPr>
          <a:xfrm>
            <a:off x="1187280" y="1916280"/>
            <a:ext cx="7201080" cy="28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наград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1T06:17:33Z</dcterms:created>
  <dc:creator>1</dc:creator>
  <dc:description/>
  <dc:language>en-US</dc:language>
  <cp:lastModifiedBy>pc11</cp:lastModifiedBy>
  <dcterms:modified xsi:type="dcterms:W3CDTF">2010-05-18T07:14:49Z</dcterms:modified>
  <cp:revision>22</cp:revision>
  <dc:subject/>
  <dc:title>МОУ Шпановская оош </dc:title>
</cp:coreProperties>
</file>