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6C2-E009-4749-934A-B2685ED1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8DF-F602-4294-8404-A22B6EC3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0CF-EA92-4410-BFFB-4CA177FC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062-8963-4F79-A173-BFD57242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4F1-4362-433D-A25B-54507DB5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BED-6591-4485-998E-1C2B6ED0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239-808E-46C4-B4B7-0541A72D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F8A-DAEF-4285-BFAF-D81D963F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248-9415-4CA5-9BDA-0BBEE7BC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527-97AA-46F2-A6C7-FFC6A96A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863-2EA3-4FAA-9268-181EAABA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54B-5028-49F2-B41D-1E09D065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C07C-5503-4C69-9B10-09EF6FFE1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43000"/>
            <a:ext cx="94489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7:28:18Z</dcterms:created>
  <dc:creator>User</dc:creator>
  <dc:description/>
  <dc:language>en-US</dc:language>
  <cp:lastModifiedBy>User</cp:lastModifiedBy>
  <dcterms:modified xsi:type="dcterms:W3CDTF">2015-04-22T18:50:51Z</dcterms:modified>
  <cp:revision>2</cp:revision>
  <dc:subject/>
  <dc:title>Слайд 1</dc:title>
</cp:coreProperties>
</file>