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A7D8-8174-4489-BF9B-AC71156E5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2198-08F7-45EC-93F6-4DC4027B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BD52-F8A6-4481-AEC6-7C1E8CA7B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B29A-00DE-41D8-9FE4-54465054B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C344-7E90-4926-BE78-21D668E7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685D-4204-4107-A735-CFEE5CB0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06E6-F87D-473C-B017-BF8FF9DE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1533-1FD0-4F64-9687-382EBBEE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221B-6C45-48FE-BA7F-13EC57BD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C26B-2CAD-4145-9D7E-87A537DC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DF89-C55B-4FC0-8DA7-D5361134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D3B8-0225-4C8D-BE4A-C3BE15CC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09EA-9CD4-434C-9705-9BCA88CE0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43000"/>
            <a:ext cx="94489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2T17:28:18Z</dcterms:created>
  <dc:creator>User</dc:creator>
  <dc:description/>
  <dc:language>en-US</dc:language>
  <cp:lastModifiedBy>User</cp:lastModifiedBy>
  <dcterms:modified xsi:type="dcterms:W3CDTF">2015-04-22T18:50:51Z</dcterms:modified>
  <cp:revision>2</cp:revision>
  <dc:subject/>
  <dc:title>Слайд 1</dc:title>
</cp:coreProperties>
</file>