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D9D-8257-44DE-85D4-D8DF9F41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779-6795-4C8E-ACBE-1B9D877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3E4-D662-4682-A904-B14874F3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68E-E73F-4066-9737-4D049DC5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F0-D373-4F59-86F6-C2219D6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2A1-C080-4BB6-9017-3ADF021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B98-1127-4718-868C-4D34314A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910-16AF-4DD4-964A-B936A39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EED-0C04-431C-A9D2-7CF2B8E4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70E-7FC2-42F8-B8BC-BF268B6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61C-3549-408B-9249-BD23566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F17-2B7C-4E3D-9E12-F833F00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331A-DF3C-44B0-9D30-088C6A2D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9360" y="468360"/>
            <a:ext cx="4508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Буровин Алексей Максимович - участник Великой Отечественной войны 1941-1945гг. Родился 03.03.1925 года в село Новошино Выксунского района Горьковской области в семье колхозников Буровиных Максима Андреевича и Дарьи Васильевны. В семье было  пятеро детей. Жили скромно. Много трудились. Дети воспитывались в большом уважении и любви  к старшим и  друг к другу. Началась война. Вся семья Буровиных трудилась в колхо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5920" y="179280"/>
            <a:ext cx="2130480" cy="280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60480" y="365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6480" y="34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4640" y="3132000"/>
            <a:ext cx="61930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15 января 1943 года призывной комиссией Муромского районного военного комиссариата  Владимирской области Буровин Алексей Максимович призван годным к строевой службе и направлен на действительную  военную службу в часть. Так в восемнадцать лет Алексей начал обучение в школе младшего командирского  состава. По окончании его направили в 159 стрелковую дивизию 631 стрелкового полка  3 Белорусского фронта (командующий фронтом генерал И.Д.Черняховский) в качестве командира стрелкого отделения в звании сержа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В июне 1944 года 631 стрелковым Полком командовал подполковник К.Д.Дмитриев. В это время дивизия действовала на Богушевском направлении  (Витебская область). 631 строевой полк занимал оборону в первом эшелоне. И 24 июня 1944 года полки вошли в Богушанс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12 августа 159 дивизия вышла к реке Шешуна. 631 стрелковый полк штурмовал последний вражеский рубеж на своей земле. И 17 августа  159 стрелковая дивизия вышла на госграницу с Восточной Пруссией у города Кудиркос-Науместис.   В этих боях и получил тяжелое ранение командир отделения  автоматчиков сержант   Буровин Алексей Максимо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После лечения в госпитале решением военной медкомиссии 25 октября 1944 года уволен из действующ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Вернулся в свое село. В живых не было уже ни отца, ни матери. Он становится главой семь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Буровин А.М. награжден медалью "За боевые заслуги", Орденом "Отечественной войны" 11 степени, медалью Жукова и многочисленными медалями к юбилеям Победы, за труд -  медалью "Ветеран труда". Работал  электрогазосварщиком на судостроительном заводе г.Навашино. Умер 17.04.2000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9000" y="250920"/>
            <a:ext cx="1941480" cy="340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5000" y="32400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сле лечения в госпитале решением военной медкомиссии 25 октября 1944 года уволен из действующе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ернулся в свое село. В живых не было уже ни отца, ни матери. Он становится главой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уровин А.М. награжден медалью "За боевые заслуги", Орденом "Отечественной войны" 11 степени, медалью Жукова и многочисленными медалями к юбилеям Победы, за труд -  медалью "Ветеран труда". Работал  электрогазосварщиком на судостроительном заводе г.Навашино. Умер 17.04.200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3:05:27Z</dcterms:created>
  <dc:creator>Tatyana</dc:creator>
  <dc:description/>
  <dc:language>en-US</dc:language>
  <cp:lastModifiedBy>Tatyana</cp:lastModifiedBy>
  <dcterms:modified xsi:type="dcterms:W3CDTF">2015-04-30T07:22:25Z</dcterms:modified>
  <cp:revision>5</cp:revision>
  <dc:subject/>
  <dc:title>Слайд 1</dc:title>
</cp:coreProperties>
</file>